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C4F0A-5CE4-4187-A0D4-B4DB9CFC1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8A0EE-CDC7-4FA7-8457-647406250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C6A2D-5BD4-459C-AB68-DF2999537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494DB-50B9-4A72-9E6D-D0815887F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D582C-EFBF-4423-B679-8DDE5E466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76579-E863-4836-A9E0-FFFB76B2A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7A926-416C-49F5-93EF-9099995FE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AFFAE-CF02-4066-8205-C2A714933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DEB7E-1E07-4407-9265-38953762F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82A8D-0CAE-4781-9CA3-1087DE9B0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A603D-6BC1-4306-8FBD-4E3B35308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34203-7181-43F2-9A6F-48FB62F33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ADA3F-2F82-4211-A725-C0402A4CA6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995640" y="404640"/>
            <a:ext cx="4824360" cy="7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009960" y="4876920"/>
          <a:ext cx="3124080" cy="166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09960" y="4876920"/>
                    <a:ext cx="3124080" cy="166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539640" y="119592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1</cp:lastModifiedBy>
  <dcterms:modified xsi:type="dcterms:W3CDTF">2005-01-13T14:06:40Z</dcterms:modified>
  <cp:revision>80</cp:revision>
  <dc:subject/>
  <dc:title>Τίτλος ενότητας</dc:title>
</cp:coreProperties>
</file>