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62F0-09FB-4AB5-BC90-2B31A4B38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3EB5-25D1-4520-BFA6-D25F9F175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C57F-E1FD-4F88-8839-728E76526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1AE5-C76A-41BB-B3D8-0DDF2B81F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3FD8-7802-4737-9B6B-CB60A5649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1623-2122-45F4-BC01-2B69C64F8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58D5-171D-4CCD-A5F9-5E8FE61C9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309A-7125-44EA-AF98-A95A002C6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8D71-E7F6-45EC-9002-C079138A7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53EB-0FFC-4285-A867-4432E88FD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B41D-3C87-4100-921D-8F08B55A1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C6BF-73F1-4B73-A3C2-8CC41F69D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D5CF1-54A6-4BE4-8362-4FAA5FE635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9840"/>
                            </p:stCondLst>
                            <p:childTnLst>
                              <p:par>
                                <p:cTn id="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3:58:41Z</dcterms:modified>
  <cp:revision>82</cp:revision>
  <dc:subject/>
  <dc:title>Τίτλος ενότητας</dc:title>
</cp:coreProperties>
</file>